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DB9-BD6C-4FA5-89F7-4B31A926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0A3-684F-4A2F-BAA4-34D9B688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297-AADE-4E98-A6D0-3AE1C862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681-45A3-441C-AEAF-2837E7C3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720-34C7-4929-923C-4D2F3A3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A07-7CF7-42DE-93AE-275B8AA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138-476F-4D79-9496-A5B93D80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34D-E4D0-4F65-8EC9-241CF9F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477-4F46-454B-8C0C-50B101A2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491-F4E3-4424-9CDD-04E064E7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A22-18FB-4351-A642-2B86DAAE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F7D-6B34-41B4-A2AC-223AF49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19C8-1430-441D-8059-ED05B4C71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toa_in_Athens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en.wikipedia.org/wiki/File:Greek_street_-_III_century_BC_-_Porta_Rosa_-_Velia_-_Italy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PHAROS2006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2/United_States_Capitol_-_west_front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ce’s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 were made of wood, plaster, limestone, terracotta, metals, and mar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atching for roo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 were originally simple, the prog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es are the best known Greek 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phi is an example of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oa of Att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cobb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657600"/>
            <a:ext cx="312408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4572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Greek street - III century BC - Porta Rosa - Velia - Italy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4648320"/>
            <a:ext cx="196236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2000" cy="53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43480" y="0"/>
            <a:ext cx="3800520" cy="441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light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hree stages of architecture. Ionian, Doric, Corinth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he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emple of Athena Parthenos ("Virgin"), Greek goddess of wisdom, on the Acropolis in Athe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ropolis is a temple on the top of the hill, high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PHAROS200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86400" y="762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Doric Style"/>
          <p:cNvPicPr/>
          <p:nvPr/>
        </p:nvPicPr>
        <p:blipFill>
          <a:blip r:embed="rId4"/>
          <a:stretch/>
        </p:blipFill>
        <p:spPr>
          <a:xfrm>
            <a:off x="5486400" y="31240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onic Style"/>
          <p:cNvPicPr/>
          <p:nvPr/>
        </p:nvPicPr>
        <p:blipFill>
          <a:blip r:embed="rId5"/>
          <a:stretch/>
        </p:blipFill>
        <p:spPr>
          <a:xfrm>
            <a:off x="6705720" y="3124080"/>
            <a:ext cx="1009440" cy="1514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Corinthian Style"/>
          <p:cNvPicPr/>
          <p:nvPr/>
        </p:nvPicPr>
        <p:blipFill>
          <a:blip r:embed="rId6"/>
          <a:stretch/>
        </p:blipFill>
        <p:spPr>
          <a:xfrm>
            <a:off x="7924680" y="3124080"/>
            <a:ext cx="95256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24280" y="312408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rthenon"/>
          <p:cNvPicPr/>
          <p:nvPr/>
        </p:nvPicPr>
        <p:blipFill>
          <a:blip r:embed="rId7"/>
          <a:stretch/>
        </p:blipFill>
        <p:spPr>
          <a:xfrm>
            <a:off x="5410080" y="47242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ile:Acropolis3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buildings &amp;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how we connected to the Gree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File:United States Capitol - west fro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57400"/>
            <a:ext cx="4343400" cy="22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File:WhiteHouseSouthFacade.JPG"/>
          <p:cNvPicPr/>
          <p:nvPr/>
        </p:nvPicPr>
        <p:blipFill>
          <a:blip r:embed="rId4"/>
          <a:stretch/>
        </p:blipFill>
        <p:spPr>
          <a:xfrm>
            <a:off x="4724280" y="1676520"/>
            <a:ext cx="4114800" cy="3008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File:JeffersonMemorialAutumnTidalBasin.jpg"/>
          <p:cNvPicPr/>
          <p:nvPr/>
        </p:nvPicPr>
        <p:blipFill>
          <a:blip r:embed="rId5"/>
          <a:stretch/>
        </p:blipFill>
        <p:spPr>
          <a:xfrm>
            <a:off x="1295280" y="4349880"/>
            <a:ext cx="34290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42:06Z</dcterms:created>
  <dc:creator>jobert</dc:creator>
  <dc:description/>
  <dc:language>en-US</dc:language>
  <cp:lastModifiedBy>jobert</cp:lastModifiedBy>
  <dcterms:modified xsi:type="dcterms:W3CDTF">2014-04-02T15:56:06Z</dcterms:modified>
  <cp:revision>3</cp:revision>
  <dc:subject/>
  <dc:title>Greece’s Buildings</dc:title>
</cp:coreProperties>
</file>